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B11E9-0F53-4057-BD53-3366652617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0570A-27FD-4722-95E1-288CC5BC13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2AA2C-F3FB-4FF9-8919-2FDBAEBD77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D9124-26F7-477C-9632-D98D08ACA2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D7007-1C2D-4E6E-8FF6-3FE2A259B3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5131C-E713-42C7-B1A6-6FD6862BF6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3F410-17FC-4466-81ED-721525FC57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B7193-D61E-42D1-BB70-8D37885633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A1C58-1E5F-4D5C-BFFD-977748A566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1190F-FA6B-4457-8957-8152DB4DD1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B5445-1CCB-48CD-A0F4-32E925871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50851-C6FA-424D-BCB2-A1F4A22075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A72E-3651-4A29-9001-D230C61E2C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freedigitalphotos.net/images/Interiors_g380-Empty_Room_With_Gallery_p82136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resources.curriculum.org/secretariat/coplanning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7D9E-69A3-4E8C-8583-D2617C6E92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Breakout 6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Connecting our Learning with Different Representations of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etails – 36 km rac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5228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markers every twelfth of the route’s total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water stations equally spaced along the way and the last is at the finish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 year Rachel and Mark both ran 1/2 of the ro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year Rachel knows she ran 7/12 of the route because she counted the markers and stopped at the seventh ma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ran to the fifth water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kilometres did they run and how much further did they run compared to last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D9A2-FFD4-4489-9B86-E942467CD6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allery Walk Solu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mathematical learning to sh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26E3-207A-408E-A27A-AE86D035116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MC900057318.WMF"/>
          <p:cNvPicPr/>
          <p:nvPr/>
        </p:nvPicPr>
        <p:blipFill>
          <a:blip r:embed="rId1"/>
          <a:stretch/>
        </p:blipFill>
        <p:spPr>
          <a:xfrm>
            <a:off x="4876920" y="2286000"/>
            <a:ext cx="2663640" cy="36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ainstorm at your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thematics did we engage in as we solved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trategies surfaced in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e solutions lead to emergent thinking about multiplication and division of fra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0608-3C75-4035-B92F-691ABA3C69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 Ques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a number line an effective model for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models did you notice in the gallery wal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5ED7-4AF6-48A1-83DE-D7AFEA1D02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 Questions con’t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engage students in a contextual problem that leads to multiplicative thinking as related to fractions and to considering division of fractions prior to teaching algorithms for these operatio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or why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11EE-FDED-4CE9-9742-DCF8E5F1BF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dden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D167-B915-4D6D-9928-370EEFE0C6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3616200" y="838080"/>
            <a:ext cx="5527800" cy="601992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/>
          <p:cNvSpPr/>
          <p:nvPr/>
        </p:nvSpPr>
        <p:spPr>
          <a:xfrm>
            <a:off x="609480" y="16765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 from Cath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dden Slide – Possible Strateg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BE59-3D02-40A4-B659-2DDE70CED6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1600200"/>
            <a:ext cx="91566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dden Slide – Possible Strateg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012B-A4B7-419B-AB23-00676E86E7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66600" y="1676520"/>
            <a:ext cx="9077400" cy="48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dden Slide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9FE1-5195-4AFF-BDD1-786D20C621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874800"/>
            <a:ext cx="9144000" cy="59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dden Slide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A24B-6A2B-4BAC-864A-34E228ACE45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1371600"/>
            <a:ext cx="3867120" cy="3429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3903840" y="304920"/>
            <a:ext cx="524016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irthday Budd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 the people who have the same birthday month as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t into p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up a 0 – 4 number line and som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2170-8A73-42F9-9C68-694CDBF67E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8238-16F3-420B-84ED-A421DF91A5E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Ordering and Comparing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er the following fractions on your number l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2,   3/4,   5/6,   3 3/4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/4,   16/4,   15/5,    3 3/3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6,   1 1/2,   1 5/10,   2/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6665-32D4-4D65-9ECB-60BBBF253E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allery Walk / 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6DD4-F848-4F99-BBDB-F289D0F34D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http://c95711.r11.cf3.rackcdn.com/Gallery_The_picture_blue_w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1523880"/>
            <a:ext cx="5410080" cy="35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deo Preview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3712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at ways does the problem unpack key understandings about fra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at ways does the problem allow ALL students  (including those with specific LDs) access to the mathematic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notice about the teacher’s questio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notice about student representations and dialog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66DE-FAE1-4742-A6C6-135B5E1346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MH900434799.JPG"/>
          <p:cNvPicPr/>
          <p:nvPr/>
        </p:nvPicPr>
        <p:blipFill>
          <a:blip r:embed="rId1"/>
          <a:stretch/>
        </p:blipFill>
        <p:spPr>
          <a:xfrm>
            <a:off x="4343400" y="1676520"/>
            <a:ext cx="3962520" cy="396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NS The Three Part Lesson in Mathematics; Supporting Studen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2 D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3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esources.curriculum.org/secretariat/coplannin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In The Classroo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5814-788A-4877-A112-E18F53415A7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3712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at ways does the problem unpack key understandings about fra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at ways does the problem allow ALL students  (including those with specific LDs) access to the mathematic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notice about the teacher’s questio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notice about student representations and dialog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6A0E-6085-4AF5-9C31-7C45885C30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unning for Fun</a:t>
            </a:r>
            <a:br>
              <a:rPr sz="4400"/>
            </a:br>
            <a:r>
              <a:rPr b="0" lang="en-US" sz="2400" spc="-1" strike="noStrike">
                <a:solidFill>
                  <a:srgbClr val="2b5ca9"/>
                </a:solidFill>
                <a:latin typeface="Arial"/>
              </a:rPr>
              <a:t>Cathy Fosnot; </a:t>
            </a:r>
            <a:r>
              <a:rPr b="0" i="1" lang="en-US" sz="2400" spc="-1" strike="noStrike">
                <a:solidFill>
                  <a:srgbClr val="2b5ca9"/>
                </a:solidFill>
                <a:latin typeface="Arial"/>
              </a:rPr>
              <a:t>Contexts for Learning Mathematics</a:t>
            </a:r>
            <a:endParaRPr b="0" lang="en-US" sz="2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story problem to th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CDD4-FCB0-4165-9785-DD12BF4EA8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MP900424397.JPG"/>
          <p:cNvPicPr/>
          <p:nvPr/>
        </p:nvPicPr>
        <p:blipFill>
          <a:blip r:embed="rId1"/>
          <a:stretch/>
        </p:blipFill>
        <p:spPr>
          <a:xfrm>
            <a:off x="3429000" y="2362320"/>
            <a:ext cx="4915080" cy="32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etails – 26 mile rac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228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markers every twelfth of the route’s total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water stations equally spaced along the way and the last is at the finish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 year Rachel and Mark both ran 1/2 of the ro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year Rachel knows she ran 7/12 of the route because she counted the markers and stopped at the seventh ma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ran to the fifth water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miles did they run and how much further did they run compared to last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7174-85C0-476D-84FB-8D09C45E99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11:34:06Z</dcterms:created>
  <dc:creator>CSC</dc:creator>
  <dc:description/>
  <dc:language>en-US</dc:language>
  <cp:lastModifiedBy>Kathy Kubota-Zarivnij</cp:lastModifiedBy>
  <dcterms:modified xsi:type="dcterms:W3CDTF">2012-07-26T11:55:32Z</dcterms:modified>
  <cp:revision>40</cp:revision>
  <dc:subject/>
  <dc:title>&lt;Title&gt;</dc:title>
</cp:coreProperties>
</file>